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wmf" ContentType="image/x-wmf"/>
  <Override PartName="/ppt/media/image11.jpeg" ContentType="image/jpeg"/>
  <Override PartName="/ppt/media/image24.png" ContentType="image/png"/>
  <Override PartName="/ppt/media/image27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5D8-927C-4636-B59D-A2A190F24B1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CD5-EBB2-4482-AEB5-A6675E7CA70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1E9-7D4E-44AA-9779-C6B0DB86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C5E-38C5-47AC-A022-4BA070CC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FB6-FA49-4B7B-B8E4-B14E8FBB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459-FD91-457E-8036-06879961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5CD-5CA1-478F-A62E-0A4E907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DFD-40C2-4CEA-8BD3-5F6559F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F7-C216-4A77-B4AE-570F247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F00-95C4-46B5-A52D-725D640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5BA-3C85-45C5-8BCF-4A3DB8B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5A6-A3CC-4A39-AEA0-0BBA72D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9BD-625B-4519-88E5-6D7D7CE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5D0-FEDC-4564-A6ED-8A95CF77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38C-2D34-452E-A463-874D10429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инезитерапија болесника са дегенеративним и ванзглобним реумат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odloga"/>
          <p:cNvPicPr/>
          <p:nvPr/>
        </p:nvPicPr>
        <p:blipFill>
          <a:blip r:embed="rId1"/>
          <a:srcRect l="19578" t="0" r="19895" b="78840"/>
          <a:stretch/>
        </p:blipFill>
        <p:spPr>
          <a:xfrm>
            <a:off x="1785960" y="841320"/>
            <a:ext cx="5543640" cy="1452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841400" y="572760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оц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р Катарина Парезановић Илић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а након оптерећења прима воду из синовијалне течности и поприма особине хидрауличног јаст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оптерећења траје дуже или у краћим интервалима долази до оштећењ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ази до деформације, губљења еластицитета и појаве патолошке фибрилације и ебурн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је појава фисура између влакан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бурнизација је процес стварања новог субхондралног коштаног реактивног ткива - остеоф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субхондраном делу настају и цистичне про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доводи до стварања љуспица које пливају по зглобној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ложе се на дну зглоба и условљавају иницијал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грација леукоцита из синовије и фагоцитоза љуспица хрскавице условљавају ослобађање лизозимских ензима који изазивају реакцију синовије - реактивно запаљ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им оптерећења артрозе могу настати и због: прекомерна телесна тежина, неправино држање, асиметрично оптерећење зглобова, микротрауме, конгенитал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4757760" y="1773360"/>
            <a:ext cx="37018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већи број болесника осећа дубоки, мучни бол са постепеним почетком, који се погоршава са активношћу и постепено престаје током одмора. Kада је болест озбиљнија, болови могу бити присутни и током одмора и утицати на спа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утарња укоче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кратког трајања (до 30 минута) за разлику од оне у запаљенским реуматским болестима, која најчешће траје знатно ду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“хлађењ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чава обнављање укочености зглоба захваћеног остеоартрозом након периода продуженог инактив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ци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етљивост на палп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но ограничени покрети вели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и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ћање зг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4392720" cy="391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67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024360" cy="31669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хабилитација реуматских болес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изам представља заједнички термин за оштећења коштанозглоб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остеоартикуларног) система и меких ткива (периартикуларне структуре),које је праћено болом и поремећајем фун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ска обољења карактер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а учеста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ка стопа  смр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готрајно боловање и инвали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јагноз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а п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иј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ематолош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п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иограф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роск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марк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трасонограф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арна магнетна резонанција (НМ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097080" cy="36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0364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96072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em_Buch_025"/>
          <p:cNvPicPr/>
          <p:nvPr/>
        </p:nvPicPr>
        <p:blipFill>
          <a:blip r:embed="rId2"/>
          <a:stretch/>
        </p:blipFill>
        <p:spPr>
          <a:xfrm>
            <a:off x="5076720" y="1700280"/>
            <a:ext cx="361008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мерена 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збијању симпт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увању квалитета живота и функције згл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иљ терап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кац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цијената о природи, току и прогнози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њење болова у захваћеним зглоб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мизација функционалног 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сне модификације самог процеса артр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устављање прогресије лезија, инхибицијом деградације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е, стимулацијом репарације или комбинацијом оба про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е ме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регулација телесне тежине, лок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, аеробни физички трен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а ор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каментн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лнео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и савети болесни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терана употреба зглобова и понављане повреде морају се избегав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телесне масе може донети корист болеснику са остеоартрозом носећих зглобова као што су кол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ови у остеоартрози се смањују током одмора, због чега је одмор зглобова посебно важан када су болови снаж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метријско јачање потпорних мишића око зглобова може бити од користи (као што су вежбе позиционирања квадрицепса у остеоартрози кол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аеробне вежбе у води представљају најбољи облик аеробних вежби за болеснике са остеоартрозом кукова и колена, док трчање треба избега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ак физикалне терапије у лечењу болесника са ОА периферних зглобов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стерећење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бо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бољшање или одржавање покретљивост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чување и повећање мишићне снаг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функционалних оштећ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ам дејства је вишестр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ификација ослобађања медијатора запаљенске реакције, као што су хистамин, серотонин, брадикинин, простагландини, супстанција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улација гате механизмом трансмисије импулсе за бол у задњим роговима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њају нервну проводљивос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имулишу продукцију ендогених опиоида – енкефалина и ендорф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Изазивају хиперполаризацију ћелијскле мембране, подижу праг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ректно дел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мишићни спа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ификују васкуларни тонус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већавају циркулацију крви и лимф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или одстрањују оток и исхемију ткива и алгогене супста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ост не изазивају штетне ефекте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апијске вежбе представљају једну од најважниј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воде се индивидуално и имају за ци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оштећења и очувања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б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ћање обима покрета и снаге, нормализацију хода И олакшано обављање свакодневних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штиту ОА зглоба од даљег оштећења смањењем стреса зглоба, смањењем оптерећења зглоба и побољшањем биомеха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венцију слабости и лошег здравља услед инактивитета повећањем свакодневне физичке активности и побољшањем физичког изг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асификација реуматских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859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ск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нзглоб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ке реуматске болести и парареуматск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нису дозвољене код акутно инфламираног зглоба са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ор начина вежбања, трајање, учесталост и интензитет вежби су од великог значаја за успех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квир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незитерапије примењу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за очување и повећање обима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е и активно потпомогнуте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 примењују у циљу уклањања укочености, повећања или очувања покретљивости у зглобу и повећања дужине и еластичности мишића и периартикулар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у зглобу, покретљивост зглоба треба одржавати извођењем, најмање једном дневно, комплетног пуног покре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жбе за јачање грубе моторне снаге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деалне с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метр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ихова предност је у томе што се максимална мишићна тензија може изазвати уз минималан рад, мишићни замор и оптерећење зглоба, као и да се може постићи опуштање напетих мишића 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о где се изометричким тренингом не може постићи потпуна снага, потребно је у програм увести и изотон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жбе са прогресивним отпором повећавају снагу али и пуно оптерећују зглобове, јер имају висок изотонички интензитет И високи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жене вежбе ниског интензитета и ниског оптереће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 да повећају снагу и изотоничку издржљивост ако се спроводе до тачке замора. Ова метода је погодна за болеснике са неинфламираним зглоб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шетња, вожња бицикла, аеробик плес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у баз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е доводе до побољшања флексибилности, снаге,повећања КВ капацитета и општег здравственог стања, као и губитка телесне теж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зглоба, отока или бола треба избегавати активности које повећавају оптерећење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вежбе у базен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 мањи стрес за зглобове од других аеробик веж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ник треба да смањи интензитет активности или да промени врсту аеробик вежби, уколико ходање и џогинг доводе до повећања симп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е састоје у скраћењу меких ткива у зглобу и око зглоба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иферације и фиброзе везивног ткива, при чему могу да буду захваћ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чах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оновио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мен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и и њихове те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сциј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истезањ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tch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се користе када је контрактура изазвана скраћењем мишићнотетивних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билизација и тракција зглобо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 ради када је скраћена зглобна капсула и лигам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ло често се комбинују ове две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одна терапија – 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Coxarth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троза кука или коксартроза заузима прво место међу артрозама због своје учестаности и тежине оштећења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у се, најчешће, код особа преко четрдесет година, равноправно код оба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ANd9GcR0XqhM7Tv_QPmDwzl854M3BKYIFY9TJZecoN7Y6jzvPelHyhOnfA"/>
          <p:cNvPicPr/>
          <p:nvPr/>
        </p:nvPicPr>
        <p:blipFill>
          <a:blip r:embed="rId1"/>
          <a:stretch/>
        </p:blipFill>
        <p:spPr>
          <a:xfrm>
            <a:off x="684360" y="3429000"/>
            <a:ext cx="3958920" cy="317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ANd9GcRMG4bWxzeZ6acNUmrY_jwIatrz2pQdVEsWby99HDQs5hs8Kc2StA"/>
          <p:cNvPicPr/>
          <p:nvPr/>
        </p:nvPicPr>
        <p:blipFill>
          <a:blip r:embed="rId2"/>
          <a:stretch/>
        </p:blipFill>
        <p:spPr>
          <a:xfrm>
            <a:off x="2914560" y="549360"/>
            <a:ext cx="5112000" cy="273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Nd9GcTr9CABz7qGbiUM_ulwZ5R7WQ7ZbJ2S1mZWKjXZZ29y3Nt3DTUs"/>
          <p:cNvPicPr/>
          <p:nvPr/>
        </p:nvPicPr>
        <p:blipFill>
          <a:blip r:embed="rId3"/>
          <a:stretch/>
        </p:blipFill>
        <p:spPr>
          <a:xfrm>
            <a:off x="826920" y="549360"/>
            <a:ext cx="1854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 је први клинички знак гонартрозе.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ично почиње као бол са предње или унутрашње стране колена, много ређе са спољне или задње стране, а касније захвата цело колено. У почетку се јавља при ходу, нарочито по неравном тер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ављају се прескакања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крипа (тареж, крепитације) у коленима. Укочења колена (блокаде) су ретке и обично су последица других оштећења зглобе хрскавице или менискуса. Оток колена и стрварање веће количине течности у колену се јављају у каснијој фаз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граничење покрета, нарочито савијања се јавља више година после почетка болест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741840" cy="433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4"/>
          <p:cNvGraphicFramePr/>
          <p:nvPr/>
        </p:nvGraphicFramePr>
        <p:xfrm>
          <a:off x="324000" y="1484280"/>
          <a:ext cx="44496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4449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атогенеза артрозе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ериферних зглоб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артрозе или остеоартрит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коксартроза, гонартроз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чменог сту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спондилоза,спондилоарт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артроза, ункартр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3"/>
          <p:cNvGraphicFramePr/>
          <p:nvPr/>
        </p:nvGraphicFramePr>
        <p:xfrm>
          <a:off x="1042920" y="1197000"/>
          <a:ext cx="720108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201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Ендопротеза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Kinemax Knieprothese - knstliches Kniegelenk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70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и 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брахиј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цеф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медулар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 цервикалног синд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м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ут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требно је мировање врат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ме у меком овратнику (Schantzov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в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ник) током дана и ноћи, а после само током ноћи док трају симптоми. Локално, на кожу изнад мишића који се налазе уз вратну кичму, примењује се масажа ледом (криомасаж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роничној фа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кад се смањи интензитет болова, а кичма постане покретљивија, примењују се аналгетици или нестероидни антиинфламаторни лекови према потреби. За попуштање болова и спазма примењујемо топле процедуре, масажу, електротерапију и тракцију (истезање). Топле процедуре су у облику топлих облога, топлих купки, туширања, инфрацрвене лампе, терапијског ултра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езитерапија-најзначај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умб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зликују се два клиничка облика лумбалног синдр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балгија (лумба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ресивна радикулопатија (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шиј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умбал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бол у лумбалном пределу)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. По дужини трајања дели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кутна лумбалгија настаје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рузије нуклеу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посус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блуксације интервертебралног зглоба (fasсet синд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акутн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лумбалг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Хронична лумб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3600" spc="-1" strike="noStrike">
                <a:solidFill>
                  <a:srgbClr val="000000"/>
                </a:solidFill>
                <a:latin typeface="Arial"/>
              </a:rPr>
              <a:t>Лумбална радикулопатија</a:t>
            </a:r>
            <a:r>
              <a:rPr b="1" lang="sr-Latn-BA" sz="3600" spc="-1" strike="noStrike">
                <a:solidFill>
                  <a:srgbClr val="000000"/>
                </a:solidFill>
                <a:latin typeface="Arial"/>
              </a:rPr>
              <a:t> или компресивна ишиалгија је компресивни радикуларни 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Компресију корена живца изазивају 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ус херн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луксација интервертебралних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чне дегенеративне болести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Дискус херниј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се најчешће јавља између тридесете и педесете године живота и у више од 95% случајева на ниво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L5 (компресија корена L5) или на нивоу L5-S1 (компресија корена S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Discus her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06-1-lumbar-disk-herniation"/>
          <p:cNvPicPr/>
          <p:nvPr/>
        </p:nvPicPr>
        <p:blipFill>
          <a:blip r:embed="rId1"/>
          <a:stretch/>
        </p:blipFill>
        <p:spPr>
          <a:xfrm>
            <a:off x="1692360" y="131436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ласификација лумбалног синдрома по дужини тра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утни лумбални бол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&lt; 6 недељ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ични лумбални бол ( &gt;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акутни лумбални бол ( 6 -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жање у постељ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кција лумбалног дела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дикаментозна терапија (антифлогистика, аналгетика, седа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Суб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нформација о болести и еду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идр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ект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трсон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се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нуелна мас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је ефикасна у смањењу бола и побољшању функције код одраслих са хроничним лумалним болом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грам вежби треба започети чим попусте бол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 зна се оптимално време за почетак кинезитерапије од појаве  симптома (2 до 6 недељ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еоартроза се најчешће описује као незапаљенско обољење зглобова у коме се јавља оштећење зглобне хрскавице и стварање нове кости на зглобним површинама и ивиц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атогенези остеоартрозе у последње време  појавили су се докази о важном учешћу биомеханичких, биохемијских и других процеса изазваних цитокин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ваки програм би требало да се индивидуализује према стању појединог пациј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лесници с акутним лумбалним болом не показују слабост екстензорних мишића, док су у хроничној фази ти мишићи ослабљ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ема типу, вежбе могу бити флексијске или екстензијске</a:t>
            </a:r>
            <a:r>
              <a:rPr b="1" lang="sr-RS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лексијске вежбе се користе да би се растегли флексори кука и екстензори леђа, да би се ојачала абдоминална и глутеална мускулатура и да би се извршила мобилизација задње фиксације  лумбалних зглобова. Вежбе екстензије јачају мишиће леђа, а хиперекстезијске вежбе повећавају покретљи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акутног лумбалног бола европски водичи не препоручују примену специфичних програма вежби као што су вежбе истезања, јачања, флексије и екст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убакутни и хронични лумбални бол, не постоје јединствени докази о предности појединог типа вежби у односу на други и већина терапијских водича не препоручује одређени програм вежби. Постоји велики број кинезитерапијских програма који су током историје нашли своје место у лечењу лумбалног бо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McKenzie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метод, Реганов, Мишел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illotson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illiams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рограм,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üger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техника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unk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остурална корекција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52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Kenzi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: заснива се на јачању екстензора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ије мета-анализе - метод веома успешан у третману акутног Л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жбе које подразумевају хиперекстензију кичме, у трајању од неколико минута, бол се премешта на проксималне партије КС, централизује и коначно нестаје. Када болна фаза престане, вежбама екстензије, додају се лагане вежбе флекс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на велика студија код болесника са субакутним и хроничним лумбалним болом, утврдила  је да је Mekenzi приступ, у поређењу са интензивним динамичним вежбама јачања, био је мало ефикаснији током два месеца на побољшање функције, али разлика се није одржавала у дужем пери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ан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а за циљ: истезање ПВМ и мишића итерскапуларне регије, предње мишићно-лигаментне структуре кукова, задње ложе натколеница и потколеница, јачање трбушних и антигравитационих миши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ел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истира се на истезању мишића који утичу на постуру, на мобилности карлице и формирању мишићног мидера тру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ментна нестабилност лумбалне кичме сматра се основним узроком неспецифичног хроничног Л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им проблемом бави се све више савремених ау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зивно се проналазе адекватни, високо специфични кинезитерапијски програми, који ће утицати на повећање функционалности и смањење бола, код болесника са хроничним лумбалним синдро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адиционални програми јачања снаге великих група мишића трупа у комбинацији са вежбама истезања, утичу на побољшање коштано-мишићног система, обликовање тела и побољшање пос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ак - оне активирају само мишиће спољашњег слоја лумбалног сегмента (m. Rectus abdominis, m. obliquus externus abdominis, m. Quadratus lumborum i dr.), док је унутрашња јединица запостављена, па је самим тим и стабилност лумбалног сегмента нарушена, а бол и даље прису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би се тај недостатак превазиша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ходно 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ком програму јачања снаге и покретљив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их група мишића, _x000b_додати и сет стабилизационих веж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 ће активирати и ојачати _x000b_мишиће унутрашње једи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gmark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леђну мускулатуру поделио у две групе: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локални и глобал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и системи се карактеришу анатомским и функционалним систе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об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rect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obliqu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errector spi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Резултат слика за rectus abdominis slike"/>
          <p:cNvPicPr/>
          <p:nvPr/>
        </p:nvPicPr>
        <p:blipFill>
          <a:blip r:embed="rId1"/>
          <a:stretch/>
        </p:blipFill>
        <p:spPr>
          <a:xfrm>
            <a:off x="5292720" y="2997360"/>
            <a:ext cx="3394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Лок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f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0974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8" descr=""/>
          <p:cNvPicPr/>
          <p:nvPr/>
        </p:nvPicPr>
        <p:blipFill>
          <a:blip r:embed="rId2"/>
          <a:srcRect l="0" t="0" r="3565" b="17394"/>
          <a:stretch/>
        </p:blipFill>
        <p:spPr>
          <a:xfrm>
            <a:off x="4716360" y="3429000"/>
            <a:ext cx="3311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ни систем је одговоран за примарне покрете и одржавање телесне равнот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 се налази у дубоком слоју предњег и спољашњег абдоминалног зида и уз m. multifidus основни је стабилизатор лумбалне кичме. Стабилизује кичму и штити торакалне и лумбалне кичмене пршљенове током пок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ски локални чинио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ска ос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тна гу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нљиве м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кални биомеханички чиниоци заједно са системским факторима имају синергистичке ефекте у процесу нарушавања грађе хрска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il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ви представљају програм вежби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. transversus abdominis i multifidu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ји почив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љају акценат на истовремену актив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transvers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ominis-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multifidus-a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утем статичких кон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омеханички ефекат  вежбања ових мишића огледа се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изацији сакроилијачног зглоба, који многи доводе у везу са стабилношћу лумбалне кич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тпоставци да се увећањем снаге и издржљивости ових мишића утиче на стабилност лумбалне кичме, а самим тим и на смањење бола и повећање укупне функционалн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 комбиноване сегментне спиналне стабилизације уједињује стабилизационе технике са вежбам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lliams)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cKenzie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туралне корекц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she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симетричне изометријске контракције уз реинклинацију карлиц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kow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теза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раћене мускулатуре, посебно предњих флексора кука и хамстринг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ј начин апсолутно покрива захтеве потпуног функционалног опоравка лумбалне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тавови и положаји у циљу заштите лумбалног дела кич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pozv9"/>
          <p:cNvPicPr/>
          <p:nvPr/>
        </p:nvPicPr>
        <p:blipFill>
          <a:blip r:embed="rId1"/>
          <a:stretch/>
        </p:blipFill>
        <p:spPr>
          <a:xfrm>
            <a:off x="395280" y="2176560"/>
            <a:ext cx="4016520" cy="290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ozv10"/>
          <p:cNvPicPr/>
          <p:nvPr/>
        </p:nvPicPr>
        <p:blipFill>
          <a:blip r:embed="rId2"/>
          <a:stretch/>
        </p:blipFill>
        <p:spPr>
          <a:xfrm>
            <a:off x="4572000" y="2133720"/>
            <a:ext cx="426708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анзглобни реумат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ntenzitis ili entensopat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r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osino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nikulitis ili cel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fibro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eri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артритис хумероскапуларис представља запаљенски процес околних артикуларних структура раменог зглоба и консекутивног болног синдрома р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032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релативно често обољење у средњем и старијем животном добу и око 10% становништва има ове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 је праћен у клиничкој слици следећ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е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на слаб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http://www.periarthritis-humeroscapularis.eu/index.7.GIF"/>
          <p:cNvPicPr/>
          <p:nvPr/>
        </p:nvPicPr>
        <p:blipFill>
          <a:blip r:embed="rId1"/>
          <a:stretch/>
        </p:blipFill>
        <p:spPr>
          <a:xfrm>
            <a:off x="755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снови овог процеса је оток и калкификација меких структура око рамена згло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бно се овај процес манифестује на припој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infr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raspinat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о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biceps brachii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 свега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usu coracoideusu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лузним кесиц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ursitis subdeltoidea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есто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аторној манжет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subscapularis,supraspinatu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fraspinatus i teres major i mino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chmerzhafter Bogen einer Periarthritis"/>
          <p:cNvPicPr/>
          <p:nvPr/>
        </p:nvPicPr>
        <p:blipFill>
          <a:blip r:embed="rId1"/>
          <a:stretch/>
        </p:blipFill>
        <p:spPr>
          <a:xfrm>
            <a:off x="1123920" y="2087640"/>
            <a:ext cx="27050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ки мишић ротаторне манжетне има своју инсерцију на с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пули и тетивни припој на хумеру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ограничена абдукција и УР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8810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терапија-електроаналгетске процед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љубичасто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раруж 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и риз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станак и даљи ток О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јазн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уство ОА на више локализациј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ке проме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е студије су указале на улог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 гојаз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а и у инфлам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А настаје 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нично или интермитентно нефизиолошко оптерећ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них зглобова (примарна артр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шки мање вредна артикуларна ткива независно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ерећења (секундарни облици боле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4248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хрскавица је глатка, сјајна, беле боје, полупровидна. Најдебља је на месту највећег притиска, а на периферији се стапа са синовијом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тављена је од ћелија хрскавице и основне масе. Нема крвне судове, ни нер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ндроцити се не деле, али су метаболички акти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кс чине протеогликан (мукополисахариди) и хијалуро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брење протеогликана омогућава да хрскавица пружи отпор компресији и деформа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ед оптерећења, делују и силе сабијања на зглоб, које могу бити веће и од ефикасн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katarinaparezanovicilic@gmail.com</cp:lastModifiedBy>
  <dcterms:modified xsi:type="dcterms:W3CDTF">2020-09-26T16:47:10Z</dcterms:modified>
  <cp:revision>47</cp:revision>
  <dc:subject/>
  <dc:title>Slide 1</dc:title>
</cp:coreProperties>
</file>